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EAB6-BC08-48CF-8D99-FA5898FE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350-7D34-4AA7-9EFA-46DE15E7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201E-412D-4C5A-9247-F4104C9E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Старост и пол, са демографског, али и општег друштвеног аспекта, представљају основно и најважније обележје сваке популациј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Структура становништва по старости и полу формира се у дужем периоду, под директним утицајем рађања, смртности и обима миграционих кретања становниш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138D-E39E-46DD-AFB5-536F2A9A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13B-58B6-423B-AE24-F51B4BEB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7336-AA38-4961-8849-12A2C071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73C-2ED2-47FE-9239-38758362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C549-4905-4B60-8617-CB489BAE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61C0-BAB7-4247-9BDD-74EFE0FA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88A-0877-4D93-A9F9-ABB26C7F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CD3C-292C-404E-831A-3524F972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Демографска статистика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 се бави квантитативном анализом стања и кретања становништва. Стање становништва се односи на број и састав (структуру) становништва према различитим обележји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Популациона статистика или статистика становништва (проучава број, размештај и структурална обележја становниш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Витална статистика  или статистика природног кретања (региструје рађање,умирање, склапање брака, развод бра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Миграциона статистика ( региструје унутрашње и спољашње миграције земље, укључујући усељења и исеље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85B0-2272-471C-9293-F459A15C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993-92B2-4930-BF08-CB412F47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23F3-377E-43C0-B3AC-20D2C6705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7C9-A228-4466-BA75-A65EA783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9DF8-8942-4D56-B197-3C0E1DEC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5CFC-6E57-43B8-9F13-24E57B7E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0DDE-BAFA-454A-A9B5-A92693CC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84C-FB2C-4149-9B73-F600CDF2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E4AF-56DC-492D-BFED-C8868E6B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ништво и његове карактеристике се не сматрају директним здравственим индикатором, али се користе као деноминатор за израчунавање различитих показатеља здравственог стањ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743-2040-464F-A01F-F8B1140A9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462-7B72-4A02-88CB-544117E3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24A3-CC10-4740-91AC-1C761C8C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557C-4481-4751-B4C6-21F35B27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5F1-5386-4B10-9393-70022568B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7CA4-2591-4537-AF09-B7FD41B3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4663-7829-465F-873A-6CFB430B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ништво и његове карактеристике се не сматрају директним здравственим индикатором, али се користе као деноминатор за израчунавање различитих показатеља здравственог стањ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6ECB-1E79-4627-ACF0-E16F13F1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9945-EB73-41DC-B708-E9AB2A02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3B7-A610-4892-8812-FE32D914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1AA5-EE45-4A47-B532-1122DB69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B295-C7CF-4B4F-B356-3D49F2C9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2E4D-C558-489E-800B-2C9CD6B5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5FD3-CEE2-4FF3-A3F2-63A8A03F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CF6-048B-47B5-87CB-BD2082E3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821-19E7-4709-8833-C67EA7CB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AE5-747D-4E4B-B92E-0E388D29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6FA-CC49-4270-8399-CCBD9672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86F-587A-41CD-8E42-B1EBDE7E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15E-C79E-4DC6-91C4-2CAF51B4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AA2-3082-4873-BDA9-DFE307C2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9A1-4D6D-4928-84B5-370E6365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01D-F7E1-4CD6-A193-1F9A1B7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6CC49-59B1-47F9-BBCF-E907D263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04AEB-FDAA-4F3C-9ED3-31FC13C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C7C58-394F-4A48-9941-53275C0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1183C-9E19-46B2-B050-5D962EE0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760F1-43F2-4D75-9724-025FE00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4F3D4-9767-40CF-816D-F1416E11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4B26-502B-46AC-83DC-767DA22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AC45-F04F-444E-B77D-4F1C552F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21FF5-1FD6-4B91-939B-92387BFF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AA065-6091-4238-8726-A052843B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A93-C9F8-4378-BE44-FEDA578A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45E44-8A00-4D48-82DD-5581B76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A0B27-6B05-4EFF-A213-7298D1C6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B455A-A7D3-4A39-B867-2BFB9424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64406-2E02-436A-844A-43623CD4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D3AE1-76F7-4CB4-A4F9-4D82456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E927F-6150-445A-8E65-AE5FB8A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936B4-2B42-4BA3-8258-51DEC46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63F73-90E4-4743-AB88-162E11E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09591-C4D5-4CEC-B029-1F3FAA6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C8FD7-DDD7-41B0-814B-19072673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DFD-C5BB-450A-BF85-B22EA42A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8AB45-2E6C-4F7C-8ACB-B3CA0175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44047-86F7-4F53-8CE4-5C413072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C6B46-CE7C-4F17-AFF9-6CE8BDC7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EF241-B054-484E-9815-EAB6022B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7287D-0162-497B-A9B1-A07A1D54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744A2-A319-415D-BA88-79A1F94A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AFA3A-95FA-40E2-A8BD-B6E699A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D7E23-5442-416C-8EFC-09CD15D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0FFE0-464B-4FC1-ABFE-4BB8BDD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4125D-D0DA-4348-9906-0F36BAD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9AA8-8F79-41CD-ACD9-4E91796B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89E6-5F85-4EC7-B312-34E6489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36104-A890-461A-A006-E78C2B2A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231AA-AE66-4438-9004-DAFE13E4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7C756-3D9E-4008-BC65-66E3AB20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F33F6-98A5-4D35-8D0B-6688DBB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576EE-35FC-4FFB-A1A9-7A2D0793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081C3-2AB2-455D-9EB6-7A9C1C55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7BD88-B892-4F4A-B907-9D0F1652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0CDB8-84B3-4622-8352-6444C2FE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15CA-3B95-404F-88BB-C18EC4B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3D8-BB43-4528-B464-22063308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D28F0-A4D5-4C2C-AB5A-99E4666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3DAC2-4E36-4247-AAA6-4BCCE66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D543C-8829-4518-9F80-FFB57DA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0B288-4F6F-4AEB-A341-5D6A95F7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3603C-B108-4E68-8E1D-3E9FEF2D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2E590-D97D-494F-8365-C2535E0F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1FE78-0A0B-4CAB-B3E0-4BB6A4B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94A4E-F5CF-4853-BE42-59F3AAC8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98A8F-9704-4FD5-99F8-11CA038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3E35B-2A69-4B33-804F-9D6598DB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CE85-F315-4106-8056-21615A3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B48F8-75CD-4A5E-9F50-45DBFC9A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C6E5A-1664-4660-9E2A-64CCC47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6930A-71F1-413D-94CB-E6ED901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481F3-9ED6-43FC-AF90-78E585F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EA37C-6BBD-4845-923F-45BB807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03D9B-CAA3-46F3-B842-58A9DBCD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71C10-3AD3-46C1-8CD9-28C320C0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5DB6B-1073-42E3-816E-9E86F255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65A40-F44B-46F2-B32D-8D06ADDC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71EEC-C6DC-4794-BC1E-E953C757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EFB-11F2-476B-AB26-95A12650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4EDEF-B8C3-4A5E-AE1C-4E3F3120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A0495-5BF3-452E-B041-3402C97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E69F0-62D2-4424-8FED-538BF54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64F9A-DC02-4E11-98B8-B62E0BF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2498F-5442-4633-B1CE-3725151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8D71C-3E96-4801-944F-D702FB6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ABB05-5C9B-4B67-B040-A45F984F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81C2D-3788-4965-A757-E4F83A02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8EB01-98CB-485A-B7A6-8EE890EF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3FB30-5DED-4B69-BF2D-D5D27B86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4C2-4C1E-4293-98B5-018A7DFE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1BA95-0FDA-4DBD-BEE6-376AADA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CD8D2-D77E-4820-A6F3-0B85402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E675E-BE81-41D9-9FF5-8CA1534E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0BE18-442D-4926-B2B2-99A8AC47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97143-1200-426C-9B94-582F685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89D02-71B8-4BC9-8416-CD3541A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78543-9905-431C-909E-169761F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35C44-043A-4A80-B2DE-8E2DEE2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EC268-89C2-4413-A5D0-525AA594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1329C-718F-4623-932F-73AB2D04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3D96-A8FF-436B-8994-E1C5418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203DC-F03F-4922-A5CA-B27C5165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E295A-EDCF-44A8-B793-72BD4B15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E636D-AA47-4E81-8487-816B6C8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8C31F-C6CE-46AA-8BF4-4C727DE1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2871C-89F8-445E-B12E-C11111F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6983B-97F3-481D-A26C-F0742142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44A55-1316-4A28-BEAD-0AA6C5A3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579AB-1E74-4D4E-9CE7-3887CA4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D68B0-3A08-417C-B520-23C26AE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1FD56-2347-4C39-A792-263DBCE8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D19F-C036-47F6-B950-A1F42E09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73C65-9973-43DC-A261-8EEA936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F1D2C-1A3A-4ADA-9A80-D941D31C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5BF5D-ECF2-418E-A8E0-D49E06B8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06570-17AF-473D-AE29-72577BE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37BBF-F155-4451-9BEB-EC8C3081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8758E-DFEF-4FB6-BD32-57A9F772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0E06C-69FE-4260-9000-05110D9F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C6CB2-7B1E-401B-ACA9-74C07881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3FD9E-49EF-48D6-8ED7-2332FDDE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C6F9A-AE4C-49E1-98AD-E6CE00B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CBC-BB8A-4DA5-B47D-A96EA23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FB9-8C78-4F14-928E-CD56FFD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A3E2E-F412-4256-93C9-3058195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4784B-E549-4059-AEBB-132B082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B9EB0-6239-4C69-8E95-134C16F4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9D7A2-6D0A-4A0E-AFF3-82100EFC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66226-F2EB-4B77-A08E-95430411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AA05-F300-46E8-820D-790BDD7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2216-A4DA-4F0D-9CB4-3371D7B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00D8-A958-42C1-83DA-B16599C6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BB85-7300-427C-AB05-112F9700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39C5-8094-475D-8B99-14ADA805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F124-A2B0-49B2-ADF8-71E91974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69DE-7779-4AF9-B26D-B4999835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D5E5-0C92-41D4-B90F-BA8EAE0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FD75-6533-4AC7-A977-AFA0E210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023-CC94-4479-A628-A24C977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134D-9E30-47E2-85A8-E58547C5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1808-6C68-4585-9FB6-1C65462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2312-ED10-4BFD-A008-D4893D9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DFD0-8D07-4109-A36B-DCFCDD1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D6E8-8F83-4019-8EB9-F365DD6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00A1-5E91-4384-924E-05F2AACD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AD91-7B58-4AA5-B4EA-C5F7C307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35E6-0B2B-4F10-AA3D-4E9B3C76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D7DE-AD84-441C-B818-C4ADE79D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D8EB-E7DD-4CB1-BCA9-342BD999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DA9-F996-44C2-AFE8-865BDC3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A684-1CF5-4CDB-BA59-F0AE3C56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696D-94AB-4C3A-B809-1B90401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53E4-60EE-405E-8AA4-1B0C4FA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51BB-39ED-457D-BB28-3F5822C1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0482-58AF-42DD-B360-F9E4AD4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A51B-FDAB-44DB-835E-269D064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48D6-DFE2-41A4-8220-89BA949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041A-FBEE-4484-92A5-099B2329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38BB-92A1-471D-9F01-32CE407A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B5B7-0993-429F-9257-9DAB13BA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8DF-7E5C-4C2D-BCEF-50D5BA9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2060-F140-4904-A11B-F708660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B45B-D87F-4DC3-9802-03284C1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2FA5-B9F1-4882-9502-73992D13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F5AD-6903-4A61-A247-BA4C43D4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1556-7C7A-45D1-82C4-2842627C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E704-631A-4CDE-8B86-4117A9BB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DF3B-2AC2-44E4-A683-0F7660A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40D32-B3B2-485D-B457-49F402A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1EFE-CFA8-47DB-974D-5F548754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AFD7-DBB9-45C0-9EF9-19C9A1C5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1E8-8A81-4645-A365-8EF89CB2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71DF8-FFB1-4990-B2FF-1A82E003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AF69-12A0-47D1-B706-3F233CD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74ED-62CE-4D29-947B-12E6B7FF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451A-8D16-45D8-AD7F-D05CFDA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0CB6-53EA-44F2-A238-B83DEE8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AC41-C9B4-4853-8F5D-32439372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CE465-6A2C-47BC-B573-7232854B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376F2-5D7F-486A-B73F-7B75326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BFE1D-C160-465B-85CA-F61CB3B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6F9E7-CDC6-4FE5-856F-0331F46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1A5-8878-49F5-9639-37FA11F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FFC4-176C-478E-B101-1A024B9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4C46-6744-4365-BBA3-054A7701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BF90-6019-4896-9977-5A7B2B23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DEA7-82CB-436E-B0CC-C5913FFC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BEB3-67EF-468E-A3BA-6EDB4DFA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4A75-4DA8-45DB-859B-1CA6352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71B20-6361-485C-94AC-9A59B846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5E68E-F868-400C-B75F-27245C9B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1163-D40F-4DC6-B010-49F65A77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3126-2E1D-4E6B-8228-869DA26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D34-4D8F-41FA-9906-7CBD63B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94EF4-BFB5-483A-BEE2-1DA093D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8F12E-DFCE-4791-9FF5-C5F781F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044B-54D4-487D-A429-F39467B2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C425-5EDA-4F8C-B1D0-08E6B239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4C9F-E7F5-4DE8-8B6C-D96E7BB3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F8484-AA65-4744-9140-F65491D6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A0092-E347-4E47-8F21-FD9A671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69BA-9137-4D00-9C9B-2C2A897A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0FDDC-9BCF-49C4-B806-C6F19C1B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162D-5ACD-4816-834A-14BDB849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9AA-B2D3-4349-B2DD-E998FEF2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421A-3CF3-4799-B6BE-DDC1585A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9E70-866A-4032-8565-B71D87A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BB5A9-CA6E-455E-BD5D-B21308C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51717-E78C-434E-940B-6D9222D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BE0B-8FEF-45BD-B25B-452641E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7404E-D9B2-445B-BF52-6B78C933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FF46-B11C-4183-93C8-D294E72C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FAAB9-2B4C-48EE-9815-635C3DDF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68D60-9A12-4253-A44E-9AE5C479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A88C3-9F0C-4119-AC49-97C5C74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C26-28AF-4EE2-8CAA-851025FE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A3B-302D-4CE7-87CD-2016D9C4E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629B-D169-4881-AD03-AD2DBFDBD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B30-124B-42B7-90B1-EDF17F2F4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50A6-7B77-42CE-8726-D5FC222AD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9C76-5DCE-4A86-9916-6179CC6EB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2A8-D85D-4681-B243-8DAECB973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6DAB-E760-483B-BBC8-7A2A06EB6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A78-D72F-48A1-87C0-285FA9D1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FEFD-1989-43A5-852D-305947F6F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0F12-816F-4AA0-B2F4-0036ACE6D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194-3952-4CF5-B93C-F6A604F9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4AC-C3B5-41CE-99B9-087D80BC5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4E47-D3FC-4908-A009-34C73C662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641-32F2-43F9-A11C-174812322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BE5F-D300-4A8A-B94D-86B11F17D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477-7D76-49E4-965E-E7FC4931A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7;&#1090;&#1072;&#1085;&#1086;&#1074;&#1085;&#1080;&#1096;&#1090;&#1074;&#1086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24000" y="1294920"/>
            <a:ext cx="66391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Verdana"/>
              </a:rPr>
              <a:t>СТАТИСТИКА СТАНОВНИШТВ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70102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СТАЊА СТАНОВНИШТВ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СТРУКТУРЕ СТАНОВНИШТВ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B8D6-BE70-46DD-9559-C7A27045C8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РУКТУРЕ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ДЕМОГРАФ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Л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С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ЕКОНОМСК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ма заним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тусу на ТР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елатности, запосленост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л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ОСТАЛЕ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ма образов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ачном ст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рбано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стал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ДЕМОГРАФСК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84720" y="270828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B5C-F935-4235-9471-333926AD0D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787040" y="1628640"/>
            <a:ext cx="714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ЛНА СТРУКТУРА СТАНОВНИШТ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ставља квантитативни однос мушког и женског (или обрнуто) становништва у укупном становништв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ОЕФИЦИЈЕН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M</a:t>
            </a:r>
            <a:r>
              <a:rPr b="1" lang="sr-RS" sz="1800" spc="-1" strike="noStrike">
                <a:solidFill>
                  <a:srgbClr val="0070c0"/>
                </a:solidFill>
                <a:latin typeface="Verdana"/>
              </a:rPr>
              <a:t>АСКУЛИНИТЕТ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нос мушког и женског становништ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OE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ФИЦИЈЕН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stopa) </a:t>
            </a:r>
            <a:r>
              <a:rPr b="1" lang="sr-RS" sz="1800" spc="-1" strike="noStrike">
                <a:solidFill>
                  <a:srgbClr val="ff00ff"/>
                </a:solidFill>
                <a:latin typeface="Verdana"/>
              </a:rPr>
              <a:t>ФЕМИНИТЕТА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нос женс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уш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8"/>
              <p:cNvSpPr txBox="1"/>
              <p:nvPr/>
            </p:nvSpPr>
            <p:spPr>
              <a:xfrm>
                <a:off x="4427640" y="4019400"/>
                <a:ext cx="1368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9"/>
              <p:cNvSpPr txBox="1"/>
              <p:nvPr/>
            </p:nvSpPr>
            <p:spPr>
              <a:xfrm>
                <a:off x="4500720" y="5827680"/>
                <a:ext cx="1223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advTm="72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EAC3-AE4D-46D5-855E-6BFC1FD47E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Box 7"/>
          <p:cNvSpPr/>
          <p:nvPr/>
        </p:nvSpPr>
        <p:spPr>
          <a:xfrm>
            <a:off x="1762200" y="4680000"/>
            <a:ext cx="6481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ма попису из 2011. женско становништво је бројније, 51,3% наспрам 48, 7%. (</a:t>
            </a: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стопа маскулинитета 94,6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Коефицијент маскулинитета мањи од 100 говори да на датој територији има мање мушкараца него ж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5325840" cy="266400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"/>
          <p:cNvSpPr/>
          <p:nvPr/>
        </p:nvSpPr>
        <p:spPr>
          <a:xfrm>
            <a:off x="1689120" y="1203480"/>
            <a:ext cx="662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 маскулинитета становништва Србије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08E6-557F-4D46-82BD-F112D8D168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1998720" y="126828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p:transition advTm="3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РОС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рост, основно биолошко обележје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росна структура је резултат груписања становништва по годинама или старосним груп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СНИ ИНТЕРВ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9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ЛАДО СТАНОВНИШТ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-39 M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ЛАЂ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РЕДОВЕЧ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0-59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ИЈИ СРЕДОВЕЧ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60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 СТАНОВНИШТ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Slide Number Placeholder 2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359-A110-40BD-AEA1-FB570DCC77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Функционални старосни контингенти који с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најчешће користе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ингент предшколске деце (од 0 до 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ингент деце у основном образовању (од 7 до 14)- користи се за анализу испуњавања школске обавезе, млађи и старији (од 7 до 10 и од 11 до 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дни контингент (М 15-64; Ж 15-5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Женски фертилни контингент (Ж 15-4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анализу брачног стања становништва (становништво изнад 15 год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анализу образовног нивоа становништва (становништво изнад 10 год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3D69-5251-4DC7-B6F5-4ED47E3D48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7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FAB-C6B7-4C74-AC50-415117616D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691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ПРОСЕЧНА СТАРОСТ СТАНОВНИШТВ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(просек старости становништва на дан пописа) - 30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ОЧЕКИВАНО ТРАЈАЊЕ ЖИВОТ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(просечна старост коју ће новорођени доживети – очекивана вреднос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ИНДЕКС СТАРЕЊ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дставља однос између становништва старог 65 и више година и становништва млађег од 19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- ГРАНИЧНА ВРЕДНОСТ ЈЕ 4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УЧЕШЋЕ особа старијих од 65 година у укупном становништв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до 4%- млад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4,1-7%- зрел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7,1-10%- стар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ко 10%- веома стар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осечна старост становник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48-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Жене су у просеку старе 43,5 година, а мушкарци 40,9 год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5BA0-0CAB-4CC6-A57F-D4CBAA5654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968720" cy="273672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r-RS" sz="2200" spc="-1" strike="noStrike">
                <a:solidFill>
                  <a:srgbClr val="258b7a"/>
                </a:solidFill>
                <a:latin typeface="Verdana"/>
              </a:rPr>
              <a:t>ДЕМОГРАФСКА СТАТИСТИКА</a:t>
            </a:r>
            <a:br>
              <a:rPr sz="2200"/>
            </a:br>
            <a:r>
              <a:rPr b="1" lang="sr-RS" sz="2200" spc="-1" strike="noStrike">
                <a:solidFill>
                  <a:srgbClr val="258b7a"/>
                </a:solidFill>
                <a:latin typeface="Verdana"/>
              </a:rPr>
              <a:t>ПОДЕЛА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4032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ЕМОГРАФИЈА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émos -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род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é -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писивати) ј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ука о 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становништ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ЕМОГРАФСКА СТАТИСТИ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вантитативном анализом стања и кретања становништв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258b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СТАЊ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ПУЛАЦИО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258b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ИТАЛНА СТАТИСТИ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ТИСТИКА МИГРАЦИЈ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ХАНИЧК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692360" y="1341000"/>
            <a:ext cx="720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чекивано трајање живота становништва,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рбиј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60-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113D-1E6B-473A-9EBD-F92EC2B60F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624720" cy="34560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7740720" y="3224160"/>
            <a:ext cx="419040" cy="228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" descr=""/>
          <p:cNvPicPr/>
          <p:nvPr/>
        </p:nvPicPr>
        <p:blipFill>
          <a:blip r:embed="rId3"/>
          <a:stretch/>
        </p:blipFill>
        <p:spPr>
          <a:xfrm>
            <a:off x="7750080" y="2349360"/>
            <a:ext cx="409680" cy="1810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5" descr=""/>
          <p:cNvPicPr/>
          <p:nvPr/>
        </p:nvPicPr>
        <p:blipFill>
          <a:blip r:embed="rId4"/>
          <a:stretch/>
        </p:blipFill>
        <p:spPr>
          <a:xfrm>
            <a:off x="4835520" y="2379600"/>
            <a:ext cx="457200" cy="209520"/>
          </a:xfrm>
          <a:prstGeom prst="rect">
            <a:avLst/>
          </a:prstGeom>
          <a:ln w="0">
            <a:noFill/>
          </a:ln>
        </p:spPr>
      </p:pic>
    </p:spTree>
  </p:cSld>
  <p:transition advTm="3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чекивано трајање живота на рођењу Србији и изабраним европским земљама,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32D-4E94-4154-8373-B2C277B58D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913440" cy="36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52480" y="1268280"/>
            <a:ext cx="70106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 старије од 65 година у укупној популациј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098-9E41-4543-8F49-2E298F7C8B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960560" y="2133720"/>
            <a:ext cx="6662880" cy="37447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"/>
          <p:cNvPicPr/>
          <p:nvPr/>
        </p:nvPicPr>
        <p:blipFill>
          <a:blip r:embed="rId2"/>
          <a:stretch/>
        </p:blipFill>
        <p:spPr>
          <a:xfrm>
            <a:off x="7164360" y="2297160"/>
            <a:ext cx="792360" cy="295200"/>
          </a:xfrm>
          <a:prstGeom prst="rect">
            <a:avLst/>
          </a:prstGeom>
          <a:ln w="0">
            <a:noFill/>
          </a:ln>
        </p:spPr>
      </p:pic>
    </p:spTree>
  </p:cSld>
  <p:transition advTm="29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з просечну старост од 42,2 годин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ндекс старења од 1,22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део старих 65 и више година од 17,4%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а је 2011. године међу демографски најстаријим земљама св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140F-42A8-4036-992A-423B2F16D4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3D46-E33C-4931-86C8-6411EFF8B8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О СТАРОСНА ПИРАМИД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ИПОВИ СТАРОСНИХ ПИРАМ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ГРЕ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сок нат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ЦИОНА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једначене стопе наталитета и мортал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ГРЕ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сок морт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object 7"/>
          <p:cNvSpPr/>
          <p:nvPr/>
        </p:nvSpPr>
        <p:spPr>
          <a:xfrm>
            <a:off x="2916360" y="4029120"/>
            <a:ext cx="3744720" cy="260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object 9"/>
          <p:cNvSpPr/>
          <p:nvPr/>
        </p:nvSpPr>
        <p:spPr>
          <a:xfrm>
            <a:off x="1935000" y="2335320"/>
            <a:ext cx="47880" cy="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object 10"/>
          <p:cNvSpPr/>
          <p:nvPr/>
        </p:nvSpPr>
        <p:spPr>
          <a:xfrm>
            <a:off x="3895560" y="2335320"/>
            <a:ext cx="41400" cy="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object 11"/>
          <p:cNvSpPr/>
          <p:nvPr/>
        </p:nvSpPr>
        <p:spPr>
          <a:xfrm>
            <a:off x="5651640" y="2335320"/>
            <a:ext cx="47520" cy="11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object 12"/>
          <p:cNvSpPr/>
          <p:nvPr/>
        </p:nvSpPr>
        <p:spPr>
          <a:xfrm>
            <a:off x="7356600" y="2335320"/>
            <a:ext cx="41040" cy="111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object 13"/>
          <p:cNvSpPr/>
          <p:nvPr/>
        </p:nvSpPr>
        <p:spPr>
          <a:xfrm>
            <a:off x="1836720" y="2268360"/>
            <a:ext cx="41400" cy="1051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object 14"/>
          <p:cNvSpPr/>
          <p:nvPr/>
        </p:nvSpPr>
        <p:spPr>
          <a:xfrm>
            <a:off x="3780000" y="2268360"/>
            <a:ext cx="72720" cy="1051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object 15"/>
          <p:cNvSpPr/>
          <p:nvPr/>
        </p:nvSpPr>
        <p:spPr>
          <a:xfrm>
            <a:off x="5541840" y="2268360"/>
            <a:ext cx="73080" cy="105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object 16"/>
          <p:cNvSpPr/>
          <p:nvPr/>
        </p:nvSpPr>
        <p:spPr>
          <a:xfrm>
            <a:off x="7242120" y="2268360"/>
            <a:ext cx="77760" cy="10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object 17"/>
          <p:cNvSpPr/>
          <p:nvPr/>
        </p:nvSpPr>
        <p:spPr>
          <a:xfrm>
            <a:off x="1434960" y="2268360"/>
            <a:ext cx="354240" cy="133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object 18"/>
          <p:cNvSpPr/>
          <p:nvPr/>
        </p:nvSpPr>
        <p:spPr>
          <a:xfrm>
            <a:off x="2019240" y="2268360"/>
            <a:ext cx="603360" cy="133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object 19"/>
          <p:cNvSpPr/>
          <p:nvPr/>
        </p:nvSpPr>
        <p:spPr>
          <a:xfrm>
            <a:off x="3394080" y="2268360"/>
            <a:ext cx="349200" cy="133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object 20"/>
          <p:cNvSpPr/>
          <p:nvPr/>
        </p:nvSpPr>
        <p:spPr>
          <a:xfrm>
            <a:off x="3973680" y="2268360"/>
            <a:ext cx="609480" cy="133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object 21"/>
          <p:cNvSpPr/>
          <p:nvPr/>
        </p:nvSpPr>
        <p:spPr>
          <a:xfrm>
            <a:off x="5156280" y="2268360"/>
            <a:ext cx="349200" cy="133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object 22"/>
          <p:cNvSpPr/>
          <p:nvPr/>
        </p:nvSpPr>
        <p:spPr>
          <a:xfrm>
            <a:off x="5735520" y="2268360"/>
            <a:ext cx="573120" cy="133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object 23"/>
          <p:cNvSpPr/>
          <p:nvPr/>
        </p:nvSpPr>
        <p:spPr>
          <a:xfrm>
            <a:off x="6856560" y="2268360"/>
            <a:ext cx="349200" cy="133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object 24"/>
          <p:cNvSpPr/>
          <p:nvPr/>
        </p:nvSpPr>
        <p:spPr>
          <a:xfrm>
            <a:off x="7434360" y="2268360"/>
            <a:ext cx="645840" cy="1335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object 25"/>
          <p:cNvSpPr/>
          <p:nvPr/>
        </p:nvSpPr>
        <p:spPr>
          <a:xfrm>
            <a:off x="866880" y="2809800"/>
            <a:ext cx="244440" cy="12852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object 26"/>
          <p:cNvSpPr/>
          <p:nvPr/>
        </p:nvSpPr>
        <p:spPr>
          <a:xfrm>
            <a:off x="1434960" y="2124000"/>
            <a:ext cx="7423200" cy="305928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object 7"/>
          <p:cNvSpPr/>
          <p:nvPr/>
        </p:nvSpPr>
        <p:spPr>
          <a:xfrm>
            <a:off x="2171880" y="1131840"/>
            <a:ext cx="233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4323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object 5"/>
          <p:cNvSpPr/>
          <p:nvPr/>
        </p:nvSpPr>
        <p:spPr>
          <a:xfrm>
            <a:off x="2171880" y="5300640"/>
            <a:ext cx="1801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ff0065"/>
                </a:solidFill>
                <a:latin typeface="Segoe UI"/>
                <a:ea typeface="Segoe UI"/>
              </a:rPr>
              <a:t>Прогресив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object 4"/>
          <p:cNvSpPr/>
          <p:nvPr/>
        </p:nvSpPr>
        <p:spPr>
          <a:xfrm>
            <a:off x="5156280" y="5300640"/>
            <a:ext cx="1874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0065ff"/>
                </a:solidFill>
                <a:latin typeface="Segoe UI"/>
                <a:ea typeface="Segoe UI"/>
              </a:rPr>
              <a:t>Стационар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object 3"/>
          <p:cNvSpPr/>
          <p:nvPr/>
        </p:nvSpPr>
        <p:spPr>
          <a:xfrm>
            <a:off x="7242120" y="5300640"/>
            <a:ext cx="1616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ff4f4f"/>
                </a:solidFill>
                <a:latin typeface="Segoe UI"/>
                <a:ea typeface="Segoe UI"/>
              </a:rPr>
              <a:t>Регресив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object 2"/>
          <p:cNvSpPr/>
          <p:nvPr/>
        </p:nvSpPr>
        <p:spPr>
          <a:xfrm>
            <a:off x="7651800" y="6039000"/>
            <a:ext cx="198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375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1982880" y="404640"/>
            <a:ext cx="592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РОСНА ПИРАМ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object 6"/>
          <p:cNvSpPr/>
          <p:nvPr/>
        </p:nvSpPr>
        <p:spPr>
          <a:xfrm>
            <a:off x="3716280" y="785880"/>
            <a:ext cx="221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4323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bject 5"/>
          <p:cNvSpPr/>
          <p:nvPr/>
        </p:nvSpPr>
        <p:spPr>
          <a:xfrm>
            <a:off x="1835280" y="1268280"/>
            <a:ext cx="67690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98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Segoe UI"/>
                <a:ea typeface="Segoe UI"/>
              </a:rPr>
              <a:t>Progresiv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ekspanzivni) tip starosne strukture obilj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 široka baza piramide starosti, odnosno visoki udio djece 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nam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razvoj uz visoke stope prirasta stanovništva ko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izlaze iz visokih stopa nataliteta i opadaj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h stop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taliteta. Oblik –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  <a:ea typeface="Arial"/>
              </a:rPr>
              <a:t>PIRAMID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625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Segoe UI"/>
                <a:ea typeface="Segoe UI"/>
              </a:rPr>
              <a:t>Stacionar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stagnantni) tip starosne strukture obilj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 u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dnosu na progresivni tip s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nje baze piramide i umjere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dio djece uz niske, stabilne stope nataliteta i mortaliteta iz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ojih proizlazi nepromijenjen, odnosno nizak ili nulti prirodn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rast. Oblik –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Č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ELINJA KOŠNIC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625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6500"/>
                </a:solidFill>
                <a:latin typeface="Segoe UI"/>
                <a:ea typeface="Segoe UI"/>
              </a:rPr>
              <a:t>Regresiv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kontraktivni) tip starosne strukture karakterizir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izak udio djece tako da baza piramide postaje 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od njezino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redišnjeg dijela, a to ukazuje na nizak, opadaj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 prirodn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rast ili prirodno smanjenje i pokazuje proces depopulacije 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verzije starosne strukture. Stope nataliteta na razini su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taliteta ili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k i n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. Oblik – </a:t>
            </a:r>
            <a:r>
              <a:rPr b="0" lang="en-US" sz="1900" spc="-1" strike="noStrike">
                <a:solidFill>
                  <a:srgbClr val="ff6500"/>
                </a:solidFill>
                <a:latin typeface="Arial"/>
                <a:ea typeface="Arial"/>
              </a:rPr>
              <a:t>URN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bject 4"/>
          <p:cNvSpPr/>
          <p:nvPr/>
        </p:nvSpPr>
        <p:spPr>
          <a:xfrm>
            <a:off x="1120680" y="1536840"/>
            <a:ext cx="1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bject 3"/>
          <p:cNvSpPr/>
          <p:nvPr/>
        </p:nvSpPr>
        <p:spPr>
          <a:xfrm>
            <a:off x="1120680" y="2965320"/>
            <a:ext cx="13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bject 2"/>
          <p:cNvSpPr/>
          <p:nvPr/>
        </p:nvSpPr>
        <p:spPr>
          <a:xfrm>
            <a:off x="1120680" y="4397400"/>
            <a:ext cx="1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500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38160" y="88920"/>
            <a:ext cx="9105840" cy="676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ЕКОНОМСК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4211640" y="3284640"/>
            <a:ext cx="470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ЗАНИМАЊ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СТАТУСУ НА ТРЖИШТУ РАДА И СЕКТОРУ СВОЈИ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ДЕЛАТНОСТ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7010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ОСТАЛ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1"/>
          <p:cNvSpPr/>
          <p:nvPr/>
        </p:nvSpPr>
        <p:spPr>
          <a:xfrm>
            <a:off x="3780000" y="263700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БРАЧНОМ СТАЊУ (становништво старо 15 и више година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ЖЕЊЕН, УД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ЕОЖЕЊЕН, НЕУД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ДОВАЦ, УДОВ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ЗВЕДЕН, РАЗВЕД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СКО И СЕОСК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НА СТРУК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НАЦИОНА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1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1827360" y="1006560"/>
            <a:ext cx="7070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ановништво старо 15 и више година, према законском брачном статусу и полу, 201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Нешто више од половине лица старих 15 и више година живи у брачној заједници (55%). Неожењени/неудати чине 28% следе удовци/удовице са учешћем од 11,6%, док су разведена лица, са учешћем од 4,9%, најмање заступљ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3,8% живи у ванбрачној заједниц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0292-DF9D-49B6-B6F8-4625486112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583240" cy="300672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СТАЊА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AE4-7097-46BF-B05D-14B5CB5270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БРАЧНОМ СТАЊ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634760" y="1052280"/>
            <a:ext cx="701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КРЕТ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КЛАП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ЗВОДИ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И КРЕТАЊА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ШТА СТОПА НУПЦИЈА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КЛАП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ШТА СТОПА ДИВОРЦИЈА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ЗВОДИ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6993000" y="3357720"/>
            <a:ext cx="1744560" cy="7110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7107120" y="4692600"/>
            <a:ext cx="1644840" cy="716040"/>
          </a:xfrm>
          <a:prstGeom prst="rect">
            <a:avLst/>
          </a:prstGeom>
          <a:ln w="0">
            <a:noFill/>
          </a:ln>
        </p:spPr>
      </p:pic>
    </p:spTree>
  </p:cSld>
  <p:transition advTm="4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ГРАДСКО И СЕОСКО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део градског становништва у укупном становништву РС, 1953-2011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 градским насељима, која чине 3,6% од укупног броја насеља у РС, живи готово 60% становништва Републике Србиј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D391-4B6C-4A98-8EC9-AC04F0603F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2050920" y="2206800"/>
            <a:ext cx="6174000" cy="27367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136E-6017-4E0B-BAC5-B1312832BE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ОБРАЗ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6128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ИСМЕНОС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ЧИТА И ПИШ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еписменим се сматрају лица стара 10 и више година, без школе и са 1-3 разреда основне школе каја не могу да прочитају и напишу текст у вези са свакодневним живо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 ПОПИСИМА СЕ ОВО ПИТАЊЕ ПОСТАВЉА САМО ЛИЦИМА СТАРИЈИМ ОД 10 ГОД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-330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ЕПЕН ЗАВРШЕНОГ ОБРАЗОВ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Школска спрема је највиша завршена шк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ВО ПИТАЊЕ СЕ ПОСТАВЉА САМО ЛИЦИМА СТАРИЈИМ ОД 15 ГОД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4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692000" y="162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ОБРАЗ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792080" y="836280"/>
            <a:ext cx="7140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део неписмених лица у укупном становништву старом 10 и више година, 1953-201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 Србији према попису из 2011. године 1,96% укупног становништва је неписмено, од тога 82% су зене, а ¾ неписмених лица је старо 60 и више год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одсетимо се једног од Миленијумских циљева развоја- до 2015. године обезбедити да сви дечаци и девојчице заврше основну школу!!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A86B-BED5-4C2A-8180-118D4E060B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053040" cy="2838600"/>
          </a:xfrm>
          <a:prstGeom prst="rect">
            <a:avLst/>
          </a:prstGeom>
          <a:ln w="0">
            <a:noFill/>
          </a:ln>
        </p:spPr>
      </p:pic>
    </p:spTree>
  </p:cSld>
  <p:transition advTm="68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1879560" y="259920"/>
            <a:ext cx="6913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ановништво старо 15 и више година према школској спреми, 1953-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ма резултатима пописа 2011, готова сваки други становник РС старији од 14 година стекао је средње образовањ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леде лица са основним обазовањем (20,8%) и вишим и високим образовањем (16,2%). Непотпуно основно образовање има 11% лица поменуте старости док је без школске спреме 2,7% ли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869-B787-46FD-ADE3-BCD479954F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7" name="Picture 2" descr=""/>
          <p:cNvPicPr/>
          <p:nvPr/>
        </p:nvPicPr>
        <p:blipFill>
          <a:blip r:embed="rId1"/>
          <a:stretch/>
        </p:blipFill>
        <p:spPr>
          <a:xfrm>
            <a:off x="1677960" y="1197000"/>
            <a:ext cx="7250040" cy="287172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2D0-E054-4336-8EBB-EF2F16B4C9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19280" y="304920"/>
            <a:ext cx="714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O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ЛЕ СТРУКТУРЕ: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НАЦИОНАЛНОС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РУКТУРА СТАНОВНИШТВА ПРЕМА НАЦИОНА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 ПОСЕБНОГ ЗНАЧАЈА ЗА ВИШЕНАЦИОНАЛНЕ ЗЕМЉ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1931. ПРВИ ПУТ ЈЕ ОБУХВАЋЕНА ПОПИ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4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4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724A-4B5F-47D6-A80B-97CF2ACAFE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4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O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ЛЕ СТРУКТУРЕ: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НАЦИОНАЛНОСТИ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РЕПУБЛИКА СРБИЈ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963800" y="4149720"/>
            <a:ext cx="178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zvor: RZ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6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743112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"/>
          <p:cNvSpPr/>
          <p:nvPr/>
        </p:nvSpPr>
        <p:spPr>
          <a:xfrm>
            <a:off x="2055960" y="130032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 према националној припа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9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КРЕТАЊА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C983-992A-41AF-9A50-ACF47279F5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763640" y="14605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258b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КРЕТАЊЕ СТАНОВНИШТВА 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МЕНА УКУПНОГ БРОЈА СТАНОВ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 ОДРЕЂЕНОЈ ТЕРИТОР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ОКОМ ОДРЕЂЕНОГ ВРЕМ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ТИСТИКА КРЕТАЊА ПРЕМА УЗРОЦ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8440" indent="-342720">
              <a:spcBef>
                <a:spcPts val="499"/>
              </a:spcBef>
              <a:buClr>
                <a:srgbClr val="258b7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ПРИРОДНО КРЕТАЊЕ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рађања и умирањ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8440" indent="-342720">
              <a:spcBef>
                <a:spcPts val="499"/>
              </a:spcBef>
              <a:buClr>
                <a:srgbClr val="258b7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МЕХАНИЧКО КРЕТАЊЕ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миграције: унутрашње и спољ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5D86-9B59-4BC9-85BE-658F412E3C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О КРЕТАЊ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ЕРТИ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Р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И ПРИРАШТА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B660-93C8-491F-AF50-A95F409B32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ФИНИЦИЈ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НОВНИШТВО У СТАТИСТИЧКОМ СМИСЛУ 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КУП ЉУДИ КОЈИ СЕ У ОДРЕЂЕНОМ МОМЕНТУ НАЛАЗЕ НА ТАЧНО ОДРЕЂЕНОЈ ТЕРИТОР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1810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181080" y="-1714680"/>
            <a:ext cx="49910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10" descr=""/>
          <p:cNvPicPr/>
          <p:nvPr/>
        </p:nvPicPr>
        <p:blipFill>
          <a:blip r:embed="rId1"/>
          <a:stretch/>
        </p:blipFill>
        <p:spPr>
          <a:xfrm>
            <a:off x="5724360" y="3571920"/>
            <a:ext cx="3273480" cy="4664160"/>
          </a:xfrm>
          <a:prstGeom prst="rect">
            <a:avLst/>
          </a:prstGeom>
          <a:ln w="0">
            <a:noFill/>
          </a:ln>
        </p:spPr>
      </p:pic>
    </p:spTree>
  </p:cSld>
  <p:transition advTm="3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024F-5B22-4FAE-8B65-2D139B1BB6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НАТАЛИТЕТ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34920" y="1276200"/>
            <a:ext cx="7010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ПОКАЗАТЕЉИ НАТАЛИТЕ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269640">
              <a:lnSpc>
                <a:spcPct val="90000"/>
              </a:lnSpc>
              <a:spcBef>
                <a:spcPts val="476"/>
              </a:spcBef>
              <a:buClr>
                <a:srgbClr val="258b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258b7a"/>
                </a:solidFill>
                <a:latin typeface="Verdana"/>
              </a:rPr>
              <a:t>Апсолутни наталите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број рођених у једној годи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269640">
              <a:lnSpc>
                <a:spcPct val="90000"/>
              </a:lnSpc>
              <a:spcBef>
                <a:spcPts val="476"/>
              </a:spcBef>
              <a:buClr>
                <a:srgbClr val="258b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258b7a"/>
                </a:solidFill>
                <a:latin typeface="Verdana"/>
              </a:rPr>
              <a:t>Стопе наталитета</a:t>
            </a:r>
            <a:r>
              <a:rPr b="0" lang="sr-Latn-CS" sz="1900" spc="-1" strike="noStrike">
                <a:solidFill>
                  <a:srgbClr val="258b7a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пшта стопа укупно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наталитета 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сви рође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пшта стопа</a:t>
            </a:r>
            <a:r>
              <a:rPr b="0" lang="sr-Latn-R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ефективног</a:t>
            </a:r>
            <a:r>
              <a:rPr b="0" lang="sr-Latn-R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наталитет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живорође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Стопа наталитет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2011. godine) - 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9,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‰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Нис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lt; 14,9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Средњ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15 – 19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Висо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gt; 20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3"/>
              <p:cNvSpPr txBox="1"/>
              <p:nvPr/>
            </p:nvSpPr>
            <p:spPr>
              <a:xfrm>
                <a:off x="6372360" y="2781360"/>
                <a:ext cx="1655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6"/>
              <p:cNvSpPr txBox="1"/>
              <p:nvPr/>
            </p:nvSpPr>
            <p:spPr>
              <a:xfrm>
                <a:off x="6488280" y="3933720"/>
                <a:ext cx="1757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 advTm="2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3312-152C-4B2F-880C-525144B0AA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НА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АКТОРИ ВИСИНЕ НАТАЛИТ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ИОЛОШ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КОНОМСКО-СОЦИЈАЛ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СИХОЛОШ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 СТАНОВНИШТВА ИМА ТЕНДЕНЦИЈУ ПА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1473-338D-472E-9F7F-2FB615855C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СТОПА ФЕРТИЛИТЕТА (специфични наталитет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962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 ФЕРТИЛИТЕТА, ЕФЕКТИВНА СТОПА ФЕРТИ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 НАТАЛИТЕТА КОЈИ УЗИМА У ОБЗИР ЖЕНСКО СТАНОВНИШТВО У РЕПРОДУКТИВНИМ ГОДИНАМА 15-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ЗРАЧУНАВАЊ ФЕРТИ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СТАР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БРАЧНОМ СТАЊ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СОЦИЈАЛНИМ, ОБРАЗОВНИМ, ЕТНИЧКОЈ, ПРОФЕСИОНАЛНОЈ СТРУКТУРИ СТАНОВНИШ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развијеним земљама 50-90 промил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неразвијеним преко 200 проми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Србији у 2011. години 40,6 промила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% нижи од довољног за просту репродукци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3"/>
              <p:cNvSpPr txBox="1"/>
              <p:nvPr/>
            </p:nvSpPr>
            <p:spPr>
              <a:xfrm>
                <a:off x="5148360" y="2708280"/>
                <a:ext cx="20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 advTm="30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279-E45E-4840-A6C8-38A78B0B8B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РТАЛИТЕТ СТАНОВНИШТВА ПРЕДСТАВЉ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ОЈ СМРТНИХ СЛУЧАЈЕВА КОЈЕ ЈЕ СТАНОВНИШТВО ИМАЛО У ТОКУ ОДРЕЂЕНОГ ВРЕМЕНСКОГ ПЕРИ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АЈЧЕШЋЕ 1 ГОДИ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РТАЛИТЕТ ЗАВИСИ ОД СТАРОСТИ СТАНОВНИШТВА, ПОРЕД ОСТАЛИХ ФАК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8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F96B-4429-47F7-BD29-0E510D5928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ОПА МОРТАЛИТЕ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Општа стопа морталитета</a:t>
            </a:r>
            <a:r>
              <a:rPr b="0" lang="sr-Latn-CS" sz="2000" spc="-1" strike="noStrike">
                <a:solidFill>
                  <a:srgbClr val="258b7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 умрлих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 становника средином године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пшта стопа морталитета у Срб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14,2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3780000" y="3213000"/>
                <a:ext cx="2054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3BD9-9701-4A91-AC70-E1DA5813DB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665000" y="90000"/>
            <a:ext cx="701028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752480" y="1125000"/>
            <a:ext cx="70106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пшта стопа смртности становништва Србије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50-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6" name="Picture 6" descr=""/>
          <p:cNvPicPr/>
          <p:nvPr/>
        </p:nvPicPr>
        <p:blipFill>
          <a:blip r:embed="rId1"/>
          <a:stretch/>
        </p:blipFill>
        <p:spPr>
          <a:xfrm>
            <a:off x="1774800" y="1685880"/>
            <a:ext cx="7128000" cy="30988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7" descr=""/>
          <p:cNvPicPr/>
          <p:nvPr/>
        </p:nvPicPr>
        <p:blipFill>
          <a:blip r:embed="rId2"/>
          <a:stretch/>
        </p:blipFill>
        <p:spPr>
          <a:xfrm>
            <a:off x="2556000" y="5067360"/>
            <a:ext cx="5257800" cy="1574640"/>
          </a:xfrm>
          <a:prstGeom prst="rect">
            <a:avLst/>
          </a:prstGeom>
          <a:ln w="0">
            <a:noFill/>
          </a:ln>
        </p:spPr>
      </p:pic>
    </p:spTree>
  </p:cSld>
  <p:transition advTm="41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907640" y="1033560"/>
            <a:ext cx="692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ој умрлих по старости у Србији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53 i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C318-87FD-44E6-891B-13853E7D1B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797120" y="2205000"/>
            <a:ext cx="6508800" cy="3168720"/>
          </a:xfrm>
          <a:prstGeom prst="rect">
            <a:avLst/>
          </a:prstGeom>
          <a:ln w="0">
            <a:noFill/>
          </a:ln>
        </p:spPr>
      </p:pic>
    </p:spTree>
  </p:cSld>
  <p:transition advTm="36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3040-4852-4EA4-BCC5-4B02AA192B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47280" y="304920"/>
            <a:ext cx="7215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ПРИРОДНИ ПРИРАШТА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714680" y="1214280"/>
            <a:ext cx="465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И ПРИРАШТА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СТАВЉ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ЗЛИКУ ИЗМЕЂ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ЗИТИ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РТАЛИТЕТ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ЕГАТИВНЕ КОМПОНЕНТ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ОПА ПРИРОДНОГ ПРИРАШТА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3"/>
              <p:cNvSpPr txBox="1"/>
              <p:nvPr/>
            </p:nvSpPr>
            <p:spPr>
              <a:xfrm>
                <a:off x="6858000" y="2286000"/>
                <a:ext cx="149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6"/>
              <p:cNvSpPr txBox="1"/>
              <p:nvPr/>
            </p:nvSpPr>
            <p:spPr>
              <a:xfrm>
                <a:off x="5651640" y="3500280"/>
                <a:ext cx="3206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Rectangle 7"/>
          <p:cNvSpPr/>
          <p:nvPr/>
        </p:nvSpPr>
        <p:spPr>
          <a:xfrm>
            <a:off x="2124000" y="5289480"/>
            <a:ext cx="554508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опа природног прираштаја у Срб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9,1-14,2=- 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5,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C0BD-F92E-44A7-A7C9-7BC8362131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ВИТАЛНИ ИНДЕКС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ТАЛНИ ИНДЕК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нос броја живорођених и умрл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СПОН ИНДЕК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РЕГРЕСИВНО СТАНОВНИШ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СТАЦИОНА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ПРОГРЕСИВНО СТАНОВНИШ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одине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sr-Latn-CS" sz="2000" spc="-1" strike="noStrike">
                <a:solidFill>
                  <a:srgbClr val="258b7a"/>
                </a:solidFill>
                <a:latin typeface="Verdana"/>
              </a:rPr>
              <a:t>63,7%</a:t>
            </a:r>
            <a:r>
              <a:rPr b="0" lang="en-US" sz="2000" spc="-1" strike="noStrike">
                <a:solidFill>
                  <a:srgbClr val="258b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5"/>
              <p:cNvSpPr txBox="1"/>
              <p:nvPr/>
            </p:nvSpPr>
            <p:spPr>
              <a:xfrm>
                <a:off x="3857760" y="2143080"/>
                <a:ext cx="1573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 advTm="23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1692000" y="1413000"/>
            <a:ext cx="7070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E25-BF2F-463A-833F-4D1D6D0418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769080" cy="36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0973-0BD9-4796-9333-D63FADE5AE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СЕЧАН БРОЈ СТАНОВ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КУПНИ АПСОЛУТ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СЕЧАН ГОДИШЊИ АПСОЛУТ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ЛАТИВ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ЕОГРАФСКА ДИСТРИБУЦИЈ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УСТИН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1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ЕХАНИЧКО КРЕТАЊЕ СТАНОВНИШТВА</a:t>
            </a:r>
            <a:br>
              <a:rPr sz="3200"/>
            </a:br>
            <a:br>
              <a:rPr sz="3200"/>
            </a:br>
            <a:r>
              <a:rPr b="1" lang="sr-RS" sz="2800" spc="-1" strike="noStrike">
                <a:solidFill>
                  <a:srgbClr val="000000"/>
                </a:solidFill>
                <a:latin typeface="Verdana"/>
              </a:rPr>
              <a:t>МИГРАЦИЈ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3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276A-A97A-4AEA-93C4-B0F5812562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МЕХАНИЧКО КРЕТАЊЕ: </a:t>
            </a: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А ИЛИ ПРИВРЕМЕНА ПРОМЕНА МЕСТА БОРАВК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 ОДРЕЂЕНОМ ВРЕМЕНСКОМ ИНТЕРВАЛ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БЛЕМ ВРЕМЕНСКОГ ИНТЕРВ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ИГРАЦИЈА НЕ ОБУХВАТА ТУРИСТИЧКА, СЛУЖБЕНА И ПРИВАТНА ПУТОВ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669F-5E2E-49B0-A5BC-D99F4E6650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МЕХАНИЧКО КРЕТАЊЕ: </a:t>
            </a: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752480" y="1700280"/>
            <a:ext cx="7010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ДЕЛА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РАЈНЕ И ПРИВРЕМЕ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, ДНЕВНЕ И НЕДЕЉ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И УНУТРАШ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F030-43AB-48EA-B746-F892DC0DFB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КРЕТЉИВОСТ СТАНОВНИШТВА ПРЕКО ДРЖАВНИХ ГРА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МИГРАЦИЈА (ИСЕЉАВАЊЕ) ВС. ИМИГРАЦИЈА (ДОСЕЉАВА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МЕТ ПОСМАТР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МИГРА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ИГРА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11D-8E01-41FC-B7A8-EBC251F7B7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КОНОМСКЕ (ДОБРОВОЉ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СИЛНЕ (ПРИНУД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ЛИТИЧКИ МОТИ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СПОЉН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ОДИ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20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K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АНЗ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ВРЕМЕ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 ПОГРАНИЧНИМ РЕЈОН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ЧЕСТО ПРЕРАСТАЈУ У 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1128-108C-458E-8F55-ABEDF4DB45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ЗВОРИ ПОДАТАКА ЗА СПОЉН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ГИСТРИ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АСОШКЕ ЕВИДЕН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РОЛЕ ПУТНИКА НА ГРАНИЦИ, У ЛУКАМА И НА АЕРОДРОМ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C11D-EDDB-4C84-8EA7-F3182AC880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НУТРАШЊЕ 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МЕНУ БРОЈА СТАНОВНИШТВА УНУТАР ГРАНИЦА ДРЖА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ДИСТРИБУЦИЈУ СТАНОВНИШТВА НА ТЕРИТОРИЈИ ЈЕДНЕ ЗЕМЉ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ТИВИ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БЈЕКТИВ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УБЈЕКТИВ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FFB8-FC48-4775-BBEF-424C4D0124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МОТИВ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БРОВОЉНЕ И ПРИНУД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РГАНИЗОВАНЕ И СТИХИЈСКЕ (СПОНТА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ДАЉИ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Ј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РЕЈ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359B-BC68-47CF-995B-557FF6A62E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ПОДЕЛИ СЕЛО-ГР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СЕО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ГРАД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ЛО-ГР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РАД-СЕ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ТРАЈАЊ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НЕВ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657-0CD6-4572-9E48-7417AB931D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БЛЕМ СТАТИСТИЧКОГ ОБУХВАТ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А НЕМА ОРГАНИЗОВАНУ СТАТИСТИКУ УНУТРАШЊ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752120" y="1523880"/>
            <a:ext cx="714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регионим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2002. i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A3D7-7455-48E4-BEB0-5DB96C8915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831360" cy="2736720"/>
          </a:xfrm>
          <a:prstGeom prst="rect">
            <a:avLst/>
          </a:prstGeom>
          <a:ln w="0">
            <a:noFill/>
          </a:ln>
        </p:spPr>
      </p:pic>
    </p:spTree>
  </p:cSld>
  <p:transition advTm="46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992C-5B04-4F21-8102-B0F1C9CE4C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КОМПОНЕНТЕ ПОРАСТ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МПОНЕНТЕ ПОРАСТА СТАНОВНИШТВА СУ У ФУНКЦИЈИ КРЕТАЊА ПРИРОДНИХ И МЕХАНИЧКИХ КОМПОНЕ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 И МОР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ИГРАЦИЈЕ И Е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http://lawafterthebar.files.wordpress.com/2011/01/thank-you.jpg"/>
          <p:cNvPicPr/>
          <p:nvPr/>
        </p:nvPicPr>
        <p:blipFill>
          <a:blip r:embed="rId1"/>
          <a:stretch/>
        </p:blipFill>
        <p:spPr>
          <a:xfrm>
            <a:off x="-1440" y="0"/>
            <a:ext cx="91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етање броја становника у пописним годинама Србија, 1971-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9C06-00A2-40C9-919C-D6A8EF0930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6256440" cy="31687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ојекције кретања становништва Србије у наредних 20 годи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ED3-9873-4F3E-B885-0F583ADFCB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2273400" y="2048040"/>
            <a:ext cx="6208560" cy="3738240"/>
          </a:xfrm>
          <a:prstGeom prst="rect">
            <a:avLst/>
          </a:prstGeom>
          <a:ln w="0">
            <a:noFill/>
          </a:ln>
        </p:spPr>
      </p:pic>
      <p:sp>
        <p:nvSpPr>
          <p:cNvPr id="730" name="TextBox 5"/>
          <p:cNvSpPr/>
          <p:nvPr/>
        </p:nvSpPr>
        <p:spPr>
          <a:xfrm>
            <a:off x="5500800" y="6215040"/>
            <a:ext cx="207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zvor: RZ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ГЕОГРАФСКА СТРУКТУР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ГУСТИНА НАСЕЉЕНОС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699920" y="1473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У градским насељима живи преко 500 становника на1 км2, док је у осталим насељима мање од 50 становника на 1 км2.</a:t>
            </a:r>
            <a:br>
              <a:rPr sz="1400"/>
            </a:b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Просечна густина насељености у Републици Србији износи 92,6 становника по квадратном километру, међутим, унутар регионални размештај становништва је веома неравномеран.</a:t>
            </a:r>
            <a:br>
              <a:rPr sz="1400"/>
            </a:b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Са највећом густином насељености издваја се Београдски регион, који јеса 513 становника на 1 км2 више од пет пута гушће насељен од осталих региона, док је најређе насељен Регион Јужне и</a:t>
            </a: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Источне Србије, са 60 становника на 1 км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9154-DECA-4BBA-BFAA-3FBCF44C0A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5010120" cy="251460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2:22:35Z</dcterms:created>
  <dc:creator>Ceca</dc:creator>
  <dc:description/>
  <dc:language>en-US</dc:language>
  <cp:lastModifiedBy>Majda</cp:lastModifiedBy>
  <dcterms:modified xsi:type="dcterms:W3CDTF">2020-09-20T10:49:51Z</dcterms:modified>
  <cp:revision>440</cp:revision>
  <dc:subject/>
  <dc:title>STATISTIKA STANOVNIŠTVA</dc:title>
</cp:coreProperties>
</file>